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4F0-D70D-468C-BD96-EB1320AE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264-4A43-4D50-8D72-6CB9213A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68B-842B-4F11-A0B3-AA60FC47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8C0F-DAA4-4D48-B523-8A8314AD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76F-13F3-4A25-B70D-A03240E1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C625-6241-4215-9809-A4BCCD3A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B93F-0DA5-4A96-A3EE-35A9E2CA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7927-C6A1-429F-AF66-15341656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E83D-EA17-43A6-B457-08EEE6EE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2BF-FABD-42CE-8AE5-E884C3DF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0C0-2195-4D1A-A694-8EE8E876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48F-E31F-47EC-A720-B1FCF641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60D1-B18E-4EC5-9678-C40E5FB8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57B-8831-48B3-BA71-43567177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BA88-3022-4F4A-818B-D2D4871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CA88-63EE-4792-A84C-774FA31F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76F8-0E87-491A-9698-6A94645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A7F-8821-4A28-B460-2E99B718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1F2-1DCF-427E-86E5-07C7BBC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838-585F-442F-8C91-90645D86D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16B3-8980-4596-97BD-41BDADAD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465-80CC-4230-ABF9-4DACFCEB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0AA-5241-4693-AED6-5CF9F71D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511-C78E-4E28-A455-F26187FF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B8C5-F876-40DA-84F1-CDF3450BAB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3741-C0CD-41F3-8BB5-3D1BF70385A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write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GOOD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racter description you could try some of the following techniques in your writing.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Unusual featur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p or scar can tell a story behind  a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ross his hand lay a jagged sc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djectives to describ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djectives to describe the physical details of a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scaly, wrinkled nose sniffed the 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uns to fit the personality of the charac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thes, particularly need to match the personality of the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ruffy, torn trous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teresting adjectiv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kes the writing better with imaginative wor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eathery,crink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gative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ailing what is not there is an effective way of making a reader aware of what a character may la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had no jacket, no shoes, no umbrella and no sen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tream of conscious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someone is thinking. Saying things that are in a character’s head alou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’ve got to decide…. but I can’t….. what shall I d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Movemen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ay a character moves gives much away about their personality or feel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oulders hunched, feet dragging he shuffled towards the darkened windows of ho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tes something IS something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ucepan eyes glared at hi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Sim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s comparison to add descrip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s knees shook like twanged guitar  string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Ministry of Education</cp:lastModifiedBy>
  <cp:lastPrinted>2009-04-22T19:24:48Z</cp:lastPrinted>
  <dcterms:modified xsi:type="dcterms:W3CDTF">2011-04-26T02:25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